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8B64-A4DF-4408-A2AD-9347F4A1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6D02-22B4-496A-A231-4FDE1888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95FC-4BFD-470C-A2EC-449794B5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6567-2648-4003-8278-D797CD52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A1E4-19F5-4C36-A095-A5E90C31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A6D1-2410-4373-8775-38F1D02A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BC8A-E54C-4513-BCE7-D1362F7F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C173-B3AD-463F-A4B0-5773CCF8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6E05-5549-4876-982F-0812F36D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D7E-1B67-4E4C-A99E-9D259B99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A540-DAA2-48B7-99A5-411797B5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62CA-39D9-4EC5-AB00-E11091DE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A0DC-26C9-438E-A7EB-521F57F13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Bradley Hand ITC TT-Bold"/>
              </a:rPr>
              <a:t>WHY COME TO AMERICA</a:t>
            </a:r>
            <a:r>
              <a:rPr b="0" lang="en-US" sz="9600" spc="-1" strike="noStrike">
                <a:solidFill>
                  <a:srgbClr val="000000"/>
                </a:solidFill>
                <a:latin typeface="Bradley Hand ITC TT-Bold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_x0014_01-Tobacco-Field.jpg                                           00003935_x000c_Macintosh HD                   ABA78158:"/>
          <p:cNvPicPr/>
          <p:nvPr/>
        </p:nvPicPr>
        <p:blipFill>
          <a:blip r:embed="rId1"/>
          <a:stretch/>
        </p:blipFill>
        <p:spPr>
          <a:xfrm>
            <a:off x="533520" y="1630440"/>
            <a:ext cx="8001000" cy="52275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radley Hand ITC TT-Bold"/>
              </a:rPr>
              <a:t>JAMESTOWN $$$$$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adley Hand ITC TT-Bold"/>
              </a:rPr>
              <a:t>HARD WORK</a:t>
            </a:r>
            <a:br>
              <a:rPr sz="6600"/>
            </a:br>
            <a:r>
              <a:rPr b="0" lang="en-US" sz="3600" spc="-1" strike="noStrike">
                <a:solidFill>
                  <a:srgbClr val="000000"/>
                </a:solidFill>
                <a:latin typeface="Bradley Hand ITC TT-Bold"/>
              </a:rPr>
              <a:t>Make someone else do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27" descr="_x000f_tobacco harvest                                                00003935_x000c_Macintosh HD                   ABA78158:"/>
          <p:cNvPicPr/>
          <p:nvPr/>
        </p:nvPicPr>
        <p:blipFill>
          <a:blip r:embed="rId1"/>
          <a:stretch/>
        </p:blipFill>
        <p:spPr>
          <a:xfrm>
            <a:off x="1066680" y="1955880"/>
            <a:ext cx="723924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adley Hand ITC TT-Bold"/>
              </a:rPr>
              <a:t>Massachusetts Bay Colon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&#9;ships.gif                                                      00003935_x000c_Macintosh HD                   ABA78158:"/>
          <p:cNvPicPr/>
          <p:nvPr/>
        </p:nvPicPr>
        <p:blipFill>
          <a:blip r:embed="rId1"/>
          <a:stretch/>
        </p:blipFill>
        <p:spPr>
          <a:xfrm>
            <a:off x="1371600" y="2614680"/>
            <a:ext cx="662940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adley Hand ITC TT-Bold"/>
              </a:rPr>
              <a:t>SETTLED BY PURIT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&#9;purit.gif                                                      00003935_x000c_Macintosh HD                   ABA78158:"/>
          <p:cNvPicPr/>
          <p:nvPr/>
        </p:nvPicPr>
        <p:blipFill>
          <a:blip r:embed="rId1"/>
          <a:stretch/>
        </p:blipFill>
        <p:spPr>
          <a:xfrm>
            <a:off x="0" y="1536840"/>
            <a:ext cx="3708360" cy="5321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_x000c_purit18h.jpg                                                   00003935_x000c_Macintosh HD                   ABA78158:"/>
          <p:cNvPicPr/>
          <p:nvPr/>
        </p:nvPicPr>
        <p:blipFill>
          <a:blip r:embed="rId2"/>
          <a:stretch/>
        </p:blipFill>
        <p:spPr>
          <a:xfrm>
            <a:off x="3429000" y="2286000"/>
            <a:ext cx="571500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radley Hand ITC TT-Bold"/>
              </a:rPr>
              <a:t>PLYMOUTH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 TT-Bold"/>
              </a:rPr>
              <a:t>settled by separatists from the Church of England to avoid pers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028" descr="&#9;purit.gif                                                      0000B182_x000c_Macintosh HD                   ABA78158:"/>
          <p:cNvPicPr/>
          <p:nvPr/>
        </p:nvPicPr>
        <p:blipFill>
          <a:blip r:embed="rId1"/>
          <a:stretch/>
        </p:blipFill>
        <p:spPr>
          <a:xfrm>
            <a:off x="1157400" y="1981080"/>
            <a:ext cx="286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adley Hand ITC TT-Bold"/>
              </a:rPr>
              <a:t>STARTING PLYMOUTH COLO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&#10;voyage.gif                                                     00003935_x000c_Macintosh HD                   ABA78158:"/>
          <p:cNvPicPr/>
          <p:nvPr/>
        </p:nvPicPr>
        <p:blipFill>
          <a:blip r:embed="rId1"/>
          <a:stretch/>
        </p:blipFill>
        <p:spPr>
          <a:xfrm>
            <a:off x="1295280" y="1981080"/>
            <a:ext cx="693432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&#13;mayflower.gif                                                  00003935_x000c_Macintosh HD                   ABA78158: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0785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Bradley Hand ITC TT-Bold"/>
              </a:rPr>
              <a:t>The Mayflow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adley Hand ITC TT-Bold"/>
              </a:rPr>
              <a:t>PENNSYLVANIA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adley Hand ITC TT-Bold"/>
              </a:rPr>
              <a:t>settled by Quakers in search of religious freed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&#10;quaker.jpg                                                     00003935_x000c_Macintosh HD                   ABA78158:"/>
          <p:cNvPicPr/>
          <p:nvPr/>
        </p:nvPicPr>
        <p:blipFill>
          <a:blip r:embed="rId1"/>
          <a:stretch/>
        </p:blipFill>
        <p:spPr>
          <a:xfrm>
            <a:off x="685800" y="2214720"/>
            <a:ext cx="38098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radley Hand ITC TT-Bold"/>
              </a:rPr>
              <a:t>GEORGIA</a:t>
            </a:r>
            <a:br>
              <a:rPr sz="6000"/>
            </a:br>
            <a:r>
              <a:rPr b="0" lang="en-US" sz="4000" spc="-1" strike="noStrike">
                <a:solidFill>
                  <a:srgbClr val="000000"/>
                </a:solidFill>
                <a:latin typeface="Bradley Hand ITC TT-Bold"/>
              </a:rPr>
              <a:t>settled by debtors fro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radley Hand ITC TT-Bold"/>
              </a:rPr>
              <a:t>prisons in Eng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_x0010_debtorprison.JPG                                               0000AEC9_x000c_Macintosh HD                   ABA78158:"/>
          <p:cNvPicPr/>
          <p:nvPr/>
        </p:nvPicPr>
        <p:blipFill>
          <a:blip r:embed="rId1"/>
          <a:stretch/>
        </p:blipFill>
        <p:spPr>
          <a:xfrm>
            <a:off x="0" y="2414520"/>
            <a:ext cx="5257800" cy="4443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_x0006_ga.gif                                                         00003935_x000c_Macintosh HD                   ABA78158:"/>
          <p:cNvPicPr/>
          <p:nvPr/>
        </p:nvPicPr>
        <p:blipFill>
          <a:blip r:embed="rId2"/>
          <a:stretch/>
        </p:blipFill>
        <p:spPr>
          <a:xfrm>
            <a:off x="5638680" y="2590920"/>
            <a:ext cx="3213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adley Hand ITC TT-Bold"/>
              </a:rPr>
              <a:t>DANG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523880" y="1981080"/>
            <a:ext cx="57913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HIP WR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-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-STA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-ATTACKS BY N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-WILD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-FEAR OF THE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Bradley Hand ITC TT-Bold"/>
              </a:rPr>
              <a:t>MOTIVATING FORC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adley Hand ITC TT-Bold"/>
              </a:rPr>
              <a:t>RELIGION (Personal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adley Hand ITC TT-Bold"/>
              </a:rPr>
              <a:t>MONEY (Personal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adley Hand ITC TT-Bold"/>
              </a:rPr>
              <a:t>EMPIRE (National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radley Hand ITC TT-Bold"/>
              </a:rPr>
              <a:t>ENGLISH SETTLERS IN VA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ANOKE ISLAND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Lost Col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nded for economic reasons by the Englis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st permanent English sett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28" descr="_x000f_croatantree.gif                                                00003935_x000c_Macintosh HD                   ABA78158:"/>
          <p:cNvPicPr/>
          <p:nvPr/>
        </p:nvPicPr>
        <p:blipFill>
          <a:blip r:embed="rId1"/>
          <a:stretch/>
        </p:blipFill>
        <p:spPr>
          <a:xfrm>
            <a:off x="304920" y="2133720"/>
            <a:ext cx="434340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_x0010_jamestownmap.jpg                                               00003935_x000c_Macintosh HD                   ABA78158:"/>
          <p:cNvPicPr/>
          <p:nvPr/>
        </p:nvPicPr>
        <p:blipFill>
          <a:blip r:embed="rId1"/>
          <a:stretch/>
        </p:blipFill>
        <p:spPr>
          <a:xfrm>
            <a:off x="1752480" y="0"/>
            <a:ext cx="54579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65534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Bradley Hand ITC TT-Bold"/>
              </a:rPr>
              <a:t>JAMESTOWN LOC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_x000c_spanship.jpg                                                   00003935_x000c_Macintosh HD                   ABA78158:"/>
          <p:cNvPicPr/>
          <p:nvPr/>
        </p:nvPicPr>
        <p:blipFill>
          <a:blip r:embed="rId1"/>
          <a:stretch/>
        </p:blipFill>
        <p:spPr>
          <a:xfrm>
            <a:off x="2971800" y="939960"/>
            <a:ext cx="7137360" cy="5918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&#10;Native.jpg                                                     00003935_x000c_Macintosh HD                   ABA78158:"/>
          <p:cNvPicPr/>
          <p:nvPr/>
        </p:nvPicPr>
        <p:blipFill>
          <a:blip r:embed="rId2"/>
          <a:stretch/>
        </p:blipFill>
        <p:spPr>
          <a:xfrm>
            <a:off x="228600" y="762120"/>
            <a:ext cx="3289320" cy="4825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Bradley Hand ITC TT-Bold"/>
              </a:rPr>
              <a:t>GOOD THING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&#9;swamp.jpg                                                      00003935_x000c_Macintosh HD                   ABA78158:"/>
          <p:cNvPicPr/>
          <p:nvPr/>
        </p:nvPicPr>
        <p:blipFill>
          <a:blip r:embed="rId1"/>
          <a:stretch/>
        </p:blipFill>
        <p:spPr>
          <a:xfrm>
            <a:off x="3581280" y="2590920"/>
            <a:ext cx="5207040" cy="3905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radley Hand ITC TT-Bold"/>
              </a:rPr>
              <a:t>BAD THING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_x000c_mosquito.jpg                                                   00003935_x000c_Macintosh HD                   ABA78158:"/>
          <p:cNvPicPr/>
          <p:nvPr/>
        </p:nvPicPr>
        <p:blipFill>
          <a:blip r:embed="rId2"/>
          <a:stretch/>
        </p:blipFill>
        <p:spPr>
          <a:xfrm>
            <a:off x="-380880" y="2819520"/>
            <a:ext cx="533376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_x000c_fancyman.jpg                                                   00003935_x000c_Macintosh HD                   ABA78158:"/>
          <p:cNvPicPr/>
          <p:nvPr/>
        </p:nvPicPr>
        <p:blipFill>
          <a:blip r:embed="rId1"/>
          <a:stretch/>
        </p:blipFill>
        <p:spPr>
          <a:xfrm>
            <a:off x="762120" y="1523880"/>
            <a:ext cx="3894120" cy="5334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radley Hand ITC TT-Bold"/>
              </a:rPr>
              <a:t>BAD PEO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_x0008_gold.jpg                                                       00003935_x000c_Macintosh HD                   ABA78158:"/>
          <p:cNvPicPr/>
          <p:nvPr/>
        </p:nvPicPr>
        <p:blipFill>
          <a:blip r:embed="rId2"/>
          <a:stretch/>
        </p:blipFill>
        <p:spPr>
          <a:xfrm>
            <a:off x="5257800" y="2209680"/>
            <a:ext cx="26668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3:45:12Z</dcterms:created>
  <dc:creator>HCPS</dc:creator>
  <dc:description/>
  <dc:language>en-US</dc:language>
  <cp:lastModifiedBy>Barbara Weaver</cp:lastModifiedBy>
  <dcterms:modified xsi:type="dcterms:W3CDTF">2011-10-14T18:54:25Z</dcterms:modified>
  <cp:revision>31</cp:revision>
  <dc:subject/>
  <dc:title>WHY COME TO AMERICA?</dc:title>
</cp:coreProperties>
</file>